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C25-5D3F-4EB8-B16B-D8DC9390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A84-72C3-4844-A3AF-A1733878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432-0725-417C-B36E-FE5D7FFC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176-A39F-49AE-876E-1052280C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84C-A475-4E71-9584-C8D7215A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012-2F9F-4FF6-8ED5-7D3CB1DE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AC9-85CF-4183-9F08-CA181A9D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944-3A27-4B66-9CBA-10A29E08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CDA-965A-4453-BC74-E2AAD362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FD3-6294-4084-8A86-146754D3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D2D-F2FB-4C32-A8C2-71F0E33C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C5E-7C5A-4ADF-9433-4E97EE33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1CD9-CE3F-4C90-B060-C3176C05E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4932360" y="1844640"/>
            <a:ext cx="39243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vesnakartinki3"/>
          <p:cNvPicPr/>
          <p:nvPr/>
        </p:nvPicPr>
        <p:blipFill>
          <a:blip r:embed="rId1"/>
          <a:stretch/>
        </p:blipFill>
        <p:spPr>
          <a:xfrm>
            <a:off x="1332000" y="1413000"/>
            <a:ext cx="2917800" cy="44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бегаю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выполню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и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обери пословицы.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дчеркни орфограм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003640" y="2276640"/>
            <a:ext cx="3961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здоро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брос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о (не) гово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9640" y="2276640"/>
            <a:ext cx="4043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е друзья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(не) зн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тяю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рош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   друз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в  б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бр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знаеш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того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г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тяю   всегда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ыбери себе задание по сила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уровень. Запиши, исправляя оши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Кашу маслом испортишь.  Лож человека красит   Здарове за денги куп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уровень. Придумай и запиши три предложения о том, что ты не любишь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одведём ито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07588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новые знания получи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как называется эта часть реч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ую роль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ет в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до помнить о е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писании с глагол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4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_html_m7eb46e96 (1)"/>
          <p:cNvPicPr/>
          <p:nvPr/>
        </p:nvPicPr>
        <p:blipFill>
          <a:blip r:embed="rId1"/>
          <a:stretch/>
        </p:blipFill>
        <p:spPr>
          <a:xfrm>
            <a:off x="1403280" y="981000"/>
            <a:ext cx="6618240" cy="498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Тема   урок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0" y="1628640"/>
            <a:ext cx="410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vesnakartinki3"/>
          <p:cNvPicPr/>
          <p:nvPr/>
        </p:nvPicPr>
        <p:blipFill>
          <a:blip r:embed="rId1"/>
          <a:stretch/>
        </p:blipFill>
        <p:spPr>
          <a:xfrm>
            <a:off x="1258920" y="1557360"/>
            <a:ext cx="2917800" cy="440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928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ав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 глагол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img1"/>
          <p:cNvPicPr/>
          <p:nvPr/>
        </p:nvPicPr>
        <p:blipFill>
          <a:blip r:embed="rId1"/>
          <a:stretch/>
        </p:blipFill>
        <p:spPr>
          <a:xfrm>
            <a:off x="324000" y="1484280"/>
            <a:ext cx="4537080" cy="339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859280" y="1916280"/>
            <a:ext cx="374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vesnakartinki3"/>
          <p:cNvPicPr/>
          <p:nvPr/>
        </p:nvPicPr>
        <p:blipFill>
          <a:blip r:embed="rId1"/>
          <a:stretch/>
        </p:blipFill>
        <p:spPr>
          <a:xfrm>
            <a:off x="1042920" y="1341360"/>
            <a:ext cx="305604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ыпиши глаголы,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 раскрывая ско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гостей  сегодня ж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о себя ведё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лим,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б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пости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ках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ва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все повторя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s"/>
          <p:cNvPicPr/>
          <p:nvPr/>
        </p:nvPicPr>
        <p:blipFill>
          <a:blip r:embed="rId1"/>
          <a:stretch/>
        </p:blipFill>
        <p:spPr>
          <a:xfrm>
            <a:off x="539640" y="2060640"/>
            <a:ext cx="3853080" cy="266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сегда ли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 с глаголами пишется раздельн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90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вает всё же, что 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сем без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ж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, куда бы ты ни шёл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им вместе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915920"/>
            <a:ext cx="3970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мн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340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08"/>
          <p:cNvPicPr/>
          <p:nvPr/>
        </p:nvPicPr>
        <p:blipFill>
          <a:blip r:embed="rId1"/>
          <a:stretch/>
        </p:blipFill>
        <p:spPr>
          <a:xfrm>
            <a:off x="755640" y="1413000"/>
            <a:ext cx="6827760" cy="512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404640"/>
            <a:ext cx="65530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навидят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укол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годуют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гда им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здоровитс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аспределите слова в два столб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3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бегаю,     (не)выполню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годую,    (не)пришё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(не)навиде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здоровится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17:58:51Z</dcterms:created>
  <dc:creator>Aleks</dc:creator>
  <dc:description/>
  <dc:language>en-US</dc:language>
  <cp:lastModifiedBy>Начальная</cp:lastModifiedBy>
  <dcterms:modified xsi:type="dcterms:W3CDTF">2020-04-18T07:41:35Z</dcterms:modified>
  <cp:revision>24</cp:revision>
  <dc:subject/>
  <dc:title>Тема :   ?</dc:title>
</cp:coreProperties>
</file>